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7F8-580D-4D04-B6FF-0DFFED51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9C4-9A8F-41AF-B36A-B925568B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D4E-86B8-426D-80A9-FD13CD5D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713-E8A3-4B0A-A562-DF9EB444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941-721B-41B3-9A5C-39C87FFA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7B1-BB69-47C0-B910-6AEACB6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800-6E36-48C8-87EA-A4F5CACB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4D2-E9A9-4A5B-BB0D-144A948F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378-7787-45F8-93D6-7151569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856-03CF-4F41-8F31-3AF0C410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CCC-5B08-4ED9-98E4-E1E6B6E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0AD-BD56-4EBB-85E6-DD31C4D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C60-74FB-4442-8524-C3BA3CB9E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nniethepoohbear.net/showpicture.php?picname=/albumgroup1/im/group_jpg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oism (pronounced Dowism) is a common religion in Asia.  Like Buddhism, there are not gods.  Instead, they follow the teachings of a man named Lao Tz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aracter from the 100 Acre Woods is a symbol of Taoist philosop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s that each has a personality or character traits that demonstrates one of the teachings of Tao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talks about keeping things natural, uncomplicated, and simple... Just like our favorite b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oism says, “Don’t think or plan or do, just BE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hile Eeyore frets 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Piglet hesi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Rabbit calcu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and Owl pontific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Pooh just is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ooh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over the descriptions of each Pooh character.  Think about which personality traits you have in common with each charac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133720"/>
            <a:ext cx="61722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kind of clueless, maybe a bit of an air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almost always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wanders through life happ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has no goals, but no disappoin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h is looking for a simple plea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, balloons and a full belly are the key to happ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brumdisney23_gif"/>
          <p:cNvPicPr/>
          <p:nvPr/>
        </p:nvPicPr>
        <p:blipFill>
          <a:blip r:embed="rId1"/>
          <a:stretch/>
        </p:blipFill>
        <p:spPr>
          <a:xfrm>
            <a:off x="3733920" y="304920"/>
            <a:ext cx="1339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Pig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a loyal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is never the center of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thinks of other people’s feeling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needs a lot of pats on th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ants to please and get 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prefers one good friend to a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glet wor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nassedisney8_gif"/>
          <p:cNvPicPr/>
          <p:nvPr/>
        </p:nvPicPr>
        <p:blipFill>
          <a:blip r:embed="rId1"/>
          <a:stretch/>
        </p:blipFill>
        <p:spPr>
          <a:xfrm>
            <a:off x="4114800" y="304920"/>
            <a:ext cx="1100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1752120"/>
            <a:ext cx="47242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Tigg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nergetic, physical, and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impulsive (doesn’t think before he acts), and is likely to get into trou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loud and never sits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is emotional and often flies into a rage or gets upset, but gets over it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ger likes noise and music and sports… the louder and more physical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tigger"/>
          <p:cNvPicPr/>
          <p:nvPr/>
        </p:nvPicPr>
        <p:blipFill>
          <a:blip r:embed="rId1"/>
          <a:stretch/>
        </p:blipFill>
        <p:spPr>
          <a:xfrm>
            <a:off x="4114800" y="152280"/>
            <a:ext cx="99864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981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Eey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slightly cynical, expecting bad things will happen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focuses on problems and com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loses things a lot and is forget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pessimistic, and worries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yore is often shy, tired, or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pite of this, Eeyore is lovable and loves his friends and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Image72_gif"/>
          <p:cNvPicPr/>
          <p:nvPr/>
        </p:nvPicPr>
        <p:blipFill>
          <a:blip r:embed="rId1"/>
          <a:stretch/>
        </p:blipFill>
        <p:spPr>
          <a:xfrm>
            <a:off x="3809880" y="609480"/>
            <a:ext cx="144792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752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Rabb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likes to be in charge, is detail-oriented, clever, and good at pla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can be counted on in an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very organized and neat, and likes everything in it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t is uncomfortable around mess and chaos, and likes to follow a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prettdisney4_gif"/>
          <p:cNvPicPr/>
          <p:nvPr/>
        </p:nvPicPr>
        <p:blipFill>
          <a:blip r:embed="rId1"/>
          <a:stretch/>
        </p:blipFill>
        <p:spPr>
          <a:xfrm>
            <a:off x="4019400" y="228600"/>
            <a:ext cx="9050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1447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O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cademic (scholarly and well-educa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a problem solver, is thoughtful, and uses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reads a lot, and knows a lot about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loves to show off how smart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wl is very wise, and would be a good scientist or profes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gladisney3_gif"/>
          <p:cNvPicPr/>
          <p:nvPr/>
        </p:nvPicPr>
        <p:blipFill>
          <a:blip r:embed="rId1"/>
          <a:stretch/>
        </p:blipFill>
        <p:spPr>
          <a:xfrm>
            <a:off x="3809880" y="304920"/>
            <a:ext cx="920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09320" y="1676160"/>
            <a:ext cx="4800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Ka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sweet and nur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oves small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makes sure everyone is safe and f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is gentle and loving and comfor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ga likes a cozy home and quiet moments, and makes a great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kengudisney2_gif"/>
          <p:cNvPicPr/>
          <p:nvPr/>
        </p:nvPicPr>
        <p:blipFill>
          <a:blip r:embed="rId1"/>
          <a:stretch/>
        </p:blipFill>
        <p:spPr>
          <a:xfrm>
            <a:off x="3962520" y="228600"/>
            <a:ext cx="101268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752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Christopher Rob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Robin is imaginative.  He is very clever and artistic, and has goo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make a good actor or wr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oves a good story.  He loves to be surrounded b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daydreamer and loves to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Image12_gif"/>
          <p:cNvPicPr/>
          <p:nvPr/>
        </p:nvPicPr>
        <p:blipFill>
          <a:blip r:embed="rId1"/>
          <a:stretch/>
        </p:blipFill>
        <p:spPr>
          <a:xfrm>
            <a:off x="4191120" y="0"/>
            <a:ext cx="558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Tao (pronounced Dow) me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th” (to happin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ant to K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going to be explaining to me who you are… in terms of Tao and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be one character or a combination of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sheet of white paper, explain who you are in terms of Tao and Pooh. Explain yourself thoroughly! Illust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secrets to being happ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OMPASSION (care for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HUMILITY (being down-to-ear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ODERATION (enjoy everything in         small amounts, but don’t go crazy!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O S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Happiness is finding balance… in yourself and n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inding joy and laughter in everyday moments is th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Let go of stress and worry and forget about things that make you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sounds familiar, it’s because LAO’s ideas are the same as another great philosopher you know:  Winnie the Poo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argue that the Pooh stories are actually stories to help people understand Taoism and teach life le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1523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o of Winnie the Po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quotes from Pooh that match up perfectly with the teachings of Lao, who probably lived in China about 6 years before the birth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sngruppe4_gif"/>
          <p:cNvPicPr/>
          <p:nvPr/>
        </p:nvPicPr>
        <p:blipFill>
          <a:blip r:embed="rId1"/>
          <a:stretch/>
        </p:blipFill>
        <p:spPr>
          <a:xfrm>
            <a:off x="3886200" y="457200"/>
            <a:ext cx="1409760" cy="117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lao"/>
          <p:cNvPicPr/>
          <p:nvPr/>
        </p:nvPicPr>
        <p:blipFill>
          <a:blip r:embed="rId2"/>
          <a:stretch/>
        </p:blipFill>
        <p:spPr>
          <a:xfrm>
            <a:off x="5715000" y="40384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 clever mind is not a hear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Rabbit's clever," said Pooh thoughtfully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. "Rabbit's clever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And he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Yes," said Piglet, "Rabbit has Brain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was a long silenc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I suppose," said Pooh, "that that's why he never understands anything."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36214"/>
          <p:cNvPicPr/>
          <p:nvPr/>
        </p:nvPicPr>
        <p:blipFill>
          <a:blip r:embed="rId1"/>
          <a:stretch/>
        </p:blipFill>
        <p:spPr>
          <a:xfrm>
            <a:off x="7010280" y="1274760"/>
            <a:ext cx="1524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 is more to knowing than just being correc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Lot's of people talk to animals," said Pooh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Maybe, but..."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Not very man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ough," he said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That's the problem," he add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group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1752480"/>
            <a:ext cx="1562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wise know their limitations; the foolish do not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 and Tigger were walking along the forest one morning, and Tigger was talking about all the things that Tiggers can do.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I can swim," said Roo. "I fell into the river, and I swimmed. Can Tiggers swim?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Of course they can. Tiggers can do everything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an they climb trees better than Pooh?" asked Roo, stopping under the tallest Pine Tree, and looking up at i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Climbing trees is what they do best," said Tigger. "Much better than Poohs."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next thing they knew, they were stuck in the tallest pine tre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08:04Z</dcterms:created>
  <dc:creator>Daniel Boone Area School District</dc:creator>
  <dc:description/>
  <dc:language>en-US</dc:language>
  <cp:lastModifiedBy>Tech Support</cp:lastModifiedBy>
  <dcterms:modified xsi:type="dcterms:W3CDTF">2013-11-05T14:09:07Z</dcterms:modified>
  <cp:revision>11</cp:revision>
  <dc:subject/>
  <dc:title>The Tao of Poo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